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2340-631E-4302-A965-92283D1D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0EB-8D3E-4211-A610-3503BEE1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5CC-D2E8-4D02-A79D-C30BCE53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090-AA90-464D-9A3A-7E12C3DA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67F-8704-4EE3-AA27-83E2E814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CE26-0EC1-420D-A073-B2FB39A4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ADEF-CE8C-481C-B12E-AD02D35B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E57-0B8D-4AD8-A6A4-6F00150C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A13A-1843-40AA-8B9D-16AADEC7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9CE-CBEB-49FF-AF2F-015AC4C4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408-DC4E-4CCF-A7CA-5CBED2E0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4DC5-AEC6-4874-B2F6-7D4C7618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5DAC-C9F3-489D-BF06-924786984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vista.cira.colostate.edu/tss/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vista.cira.colostate.edu/views/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coha.dri.edu/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rapedms.org/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www.wrapfets.org/" TargetMode="External"/><Relationship Id="rId11" Type="http://schemas.openxmlformats.org/officeDocument/2006/relationships/image" Target="../media/image6.jpeg"/><Relationship Id="rId12" Type="http://schemas.openxmlformats.org/officeDocument/2006/relationships/hyperlink" Target="http://pah.cert.ucr.edu/aqm/308/" TargetMode="Externa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MooreT@cira.colostate.edu" TargetMode="External"/><Relationship Id="rId2" Type="http://schemas.openxmlformats.org/officeDocument/2006/relationships/hyperlink" Target="mailto:McClure@cira.colostate.edu" TargetMode="External"/><Relationship Id="rId3" Type="http://schemas.openxmlformats.org/officeDocument/2006/relationships/hyperlink" Target="mailto:JAdlhoch@air-resource.com" TargetMode="External"/><Relationship Id="rId4" Type="http://schemas.openxmlformats.org/officeDocument/2006/relationships/hyperlink" Target="mailto:gmansell@environcorp.com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ista.cira.colostate.edu/TSS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9810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AP Technical Support System for Air Quality Planning, Tracking, &amp; Decision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Moore | Western Governors’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wn McClure | Cooperative Institute for Research in the At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4343400" cy="761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95520" y="5181480"/>
            <a:ext cx="2395800" cy="515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Visibility Information Exchange Web System (VIEWS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0880" y="601992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Causes of Haze (COHA)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71880" y="6019920"/>
            <a:ext cx="952200" cy="714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Emissions Data Management System (EDMS)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114800" y="601992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WRAP Fire Emissions Tracking System (FETS)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095880" y="601992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Regional Modeling Center (RMC)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886880" y="6019920"/>
            <a:ext cx="952200" cy="714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29000" y="4800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cember 6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S Development (How? &amp; Who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868320"/>
            <a:ext cx="3886200" cy="4605480"/>
          </a:xfrm>
          <a:prstGeom prst="rect">
            <a:avLst/>
          </a:prstGeom>
          <a:solidFill>
            <a:srgbClr val="33cc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lorado State University – Cooperative Institute for Research in the Atmosphere (CI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actor for operations/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ol design/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ject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grated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re Emissions Tracking System (FETS) – Air Sciences, Inc. as subcontr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ibility Information Exchange Web System (VIEWS) – collocated with IMPROVE at NPS-CI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762120"/>
            <a:ext cx="4419720" cy="476352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ir Resource 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ENVIRON as subcontra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analysis, design, training, &amp; conten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rect support for interpretation of monitoring, emissions, source apportionment, and modeling results for haze planning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arate feeder data support sys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issions Data Management System (ED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AP Regional Modeling Center (RM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uses of Haze Assessment (CoHA)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6338880"/>
            <a:ext cx="7467480" cy="368280"/>
          </a:xfrm>
          <a:prstGeom prst="rect">
            <a:avLst/>
          </a:prstGeom>
          <a:solidFill>
            <a:srgbClr val="33cc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ordination &amp; management by WRAP Forums/Workgroups and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5486400"/>
            <a:ext cx="685800" cy="838080"/>
          </a:xfrm>
          <a:prstGeom prst="downArrowCallout">
            <a:avLst>
              <a:gd name="adj1" fmla="val 25002"/>
              <a:gd name="adj2" fmla="val 25000"/>
              <a:gd name="adj3" fmla="val 20367"/>
              <a:gd name="adj4" fmla="val 66667"/>
            </a:avLst>
          </a:prstGeom>
          <a:solidFill>
            <a:srgbClr val="33cc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5562720"/>
            <a:ext cx="609840" cy="761760"/>
          </a:xfrm>
          <a:prstGeom prst="downArrowCallout">
            <a:avLst>
              <a:gd name="adj1" fmla="val 25002"/>
              <a:gd name="adj2" fmla="val 25000"/>
              <a:gd name="adj3" fmla="val 20819"/>
              <a:gd name="adj4" fmla="val 66667"/>
            </a:avLst>
          </a:prstGeom>
          <a:solidFill>
            <a:srgbClr val="33cc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2666880"/>
            <a:ext cx="533520" cy="6858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does TSS fit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(2007-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of planning data &amp; results for western haz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lementatio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ew and approval by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ual data update cycle to track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iodic source apportionment, modeling, and control strategy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is of 60-year RHR program – states set goals, EPA partners with states to verify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sion control to make TSS data use 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plans for T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ture (2009 and onw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rce of visibility progress/tracking data &amp; analysis results for western haze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 to support one-atmosphere air quality planning and regional control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inuing haze plan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al contribution analyses and results for Ozone and PM NAAQS issues, supporting state and local planning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yses of mercury and nitrogen de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inuing annual data update cycle to track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iodic source apportionment, modeling, &amp; control strategy analy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ration of additional data (satellite, control costs, changes in energy supply, et cet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inuing version control to make TSS data use 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AP 2008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mbers of WRAP Committees, Forums, and Workgroups, as well as members of additional organizations not currently active in the regional haze effort will meet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y strengths and weaknesses of existing data and analysis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uses and limitations of those data and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 coordination efforts needed with ongoing and planned State/Tribal/Federal projec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uss timing, effort, activities, and any needed changes in future projects by WRAP contr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 results for work planning purposes &amp;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AP 2008 Workshops,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itoring Data Analysis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day workshop, targeted for April will address monitoring methods, network operations, and data analysis activities for Ozone, PM, haze, mercury, and N deposi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missions &amp; Modeling Analysis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day workshop, targeted for July will address emissions and modeling studies related to Ozone, PM, haze, mercury, and N de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chnical Data Needs for Air Quality Planning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day workshop, targeted for September will bring forward technical data and analysis capabilities from the earlier workshops to address 2009-12 air quality control and management planning needs for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ze plan implementation – how/what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ining data, studies, &amp; results needed for air quality planning - ozone, PM, mercury, N de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RAP 2009-12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ck, report, and conduct needed analyses of progress for regional haz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regional contributions to Ozone and PM health and welfare standards’ nonattainment issues at various scal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stand and analyze the nature and causes of mercury, and nitrogen deposition/critical loads in the Wes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ss air quality changes from emissions management strategies and program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concert with emerging efforts to manage and adapt to climate change, fully integrate data for both energy supply and use as well as greenhouse gas emissions into air quality analy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lusions &amp;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does TSS fit in with efforts by states/EPA/other federal agen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there obvious functional limitations of the TSS or specific “smart” ideas that EPA would like the WRAP to consider for future develop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 Mo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– Air Quality Program Manager, W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970.491.88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/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MooreT@cira.colostate.edu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wn McC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A – Software Engineer, Research Associate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970.491.84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/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McClure@cira.colostate.edu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e Adlh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 Resource Specialists – Vice President/Project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970.484.79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/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JAdlhoch@air-resource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ry Man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 - Senior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415.899.07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/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gmansell@environcorp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57200" y="762120"/>
          <a:ext cx="8229600" cy="575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762120"/>
                    <a:ext cx="822960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05740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S / TSS Data Im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36232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S / TSS Database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0" t="0" r="0" b="26502"/>
          <a:stretch/>
        </p:blipFill>
        <p:spPr>
          <a:xfrm>
            <a:off x="152280" y="533520"/>
            <a:ext cx="8839440" cy="4495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280" y="5105520"/>
            <a:ext cx="274320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T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as the “back-end”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y relational and in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data import, validation, an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ies: Microsoft SQ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5105520"/>
            <a:ext cx="2743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Warehouse Generation Syst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s data from the OL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-normalizes and transform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s data into the Data Ware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table ind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ves “snapshots” of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ies: VB, 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5105520"/>
            <a:ext cx="281952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Wareho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as the “front-end”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a de-normalized “star schem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querying and archiv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ically generated from the OL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ies: Microsoft SQ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98000" y="6438960"/>
            <a:ext cx="549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228600" bIns="2286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8377-FB5D-4AB2-852E-CC93BBF624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knowledg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WRAP work 1997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rience wit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9 Haze SIPs submitted 12/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ed to distill key information for haze planning across wide variety of air programs in the 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AP Forums and Workgroups - Too many individuals to list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tribution of Haze – Steve Arnold (CO) &amp; Bob Kotchenruther (EPA-R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ementation &amp; Planning – Tina Anderson (WY) &amp; Mike Edwards (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ling – John Vimont (NPS), Mary Uhl (NM), Kevin Briggs (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itoring &amp; Data Analysis – Marc Pitchford (NOA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s involved – feds, tribes, states, industry, env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SS Development Team – Shawn McClure (CIRA), Joe Adlhoch (Air Resource Specialists), Gerry Mansell (ENVIRON) &amp;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PA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-kind staff work from many agencies &amp; organizations - 1,000s of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pose of talk is to report out progress to date and plans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533520" y="685800"/>
          <a:ext cx="8007120" cy="585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85800"/>
                    <a:ext cx="800712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172200" y="6172200"/>
            <a:ext cx="2362320" cy="368280"/>
          </a:xfrm>
          <a:prstGeom prst="rect">
            <a:avLst/>
          </a:prstGeom>
          <a:solidFill>
            <a:srgbClr val="d9ede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: 11/10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S / TSS Page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RAP TSS permits integration of monitoring, emissions, source apportionment, and modeling results for current and future air quality plan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data, outputs,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does the TSS exist? 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makes it different from from other “web-based data systems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to be a true decision support system addressing regulatory requirements of Regional Haze R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ngs comprehensive and consistent regional data and analysis results to planners for each Class I 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s information required for regional haze planning, as defined by air quality pl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s multiple datasets from regional analyses (monitoring, emissions, source apportionment, modeling) into displays and formats suitable for air quality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documentation and summary explanations of technic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are derived from projects and data support systems developed by WRAP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T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vista.cira.colostate.edu/TSS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sion support sys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regional haze planning in the West, expandable to other air quality indicators and/or to additional geographic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SS provides analytical results from data support systems and display tools for regional haze implementation plans (to improve visibility for the 118 Class I areas in the WRAP reg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SS  is a one-stop-shop for access, visualization, analysis, and retrieval of the technical data and regional analytical results - consolidating information about air quality monitoring, emissions inventories and models, source apportionment results, and gridded air quality/visibility regional modeling sim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1066680" y="685800"/>
          <a:ext cx="6942240" cy="585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85800"/>
                    <a:ext cx="694224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05740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S / TSS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76212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to-end Air Quality Data and Decisio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763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EWS / TSS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4876920"/>
            <a:ext cx="15238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i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4876920"/>
            <a:ext cx="21337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l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Apporti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4876920"/>
            <a:ext cx="15238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8600" y="1523880"/>
          <a:ext cx="8686800" cy="30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23880"/>
                    <a:ext cx="868680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5972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05740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grated System Solution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520" y="1434960"/>
            <a:ext cx="8229600" cy="54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omprehensive comparison and analysis of monitored, modeled, and emissions data with an integrated suite of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and expand decision suppor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providers to upload manage their own data &amp;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an open, extensible, service-oriented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services, components, and tools to air quality develo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 satellite and meteorologic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e climate change and epidemiological applications and persp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collaboration and development between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68580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and Development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S / TSS Future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6:34:42Z</dcterms:created>
  <dc:creator>Tom Moore</dc:creator>
  <dc:description/>
  <dc:language>en-US</dc:language>
  <cp:lastModifiedBy>rscheffe</cp:lastModifiedBy>
  <dcterms:modified xsi:type="dcterms:W3CDTF">2008-01-14T19:00:39Z</dcterms:modified>
  <cp:revision>26</cp:revision>
  <dc:subject/>
  <dc:title>WRAP Technical Support System for Air Quality Planning, Tracking, &amp; Decision Support</dc:title>
</cp:coreProperties>
</file>